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A6E-2C25-4D30-A115-1FF8CA4B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163-5DA7-440B-9603-2A1F7AE9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7BA-7F2F-49A8-A239-18409B86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107-95B8-4CF5-88DB-587BD398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126-21B4-4C3E-A115-91FEBEA1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8F0-5565-47CA-8302-1B21189B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E43-13F4-4AC1-9290-65D0463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CB8-AAA1-4E3A-A5C7-F5A22286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EB3-312E-4286-A1AE-25EAEC3C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C54-B59C-4DF3-860B-A7EE6B0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EED-6F5E-4879-86CA-462D101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472-FE33-4B2E-9CFA-DA7433C3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DFA2-0F09-4C7C-B569-D833A8431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7:59:46Z</dcterms:created>
  <dc:creator>Debra Webb</dc:creator>
  <dc:description/>
  <dc:language>en-US</dc:language>
  <cp:lastModifiedBy>Debra Webb</cp:lastModifiedBy>
  <dcterms:modified xsi:type="dcterms:W3CDTF">2011-09-07T19:07:03Z</dcterms:modified>
  <cp:revision>3</cp:revision>
  <dc:subject/>
  <dc:title>Learning Data</dc:title>
</cp:coreProperties>
</file>